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3.gif" ContentType="image/gif"/>
  <Override PartName="/ppt/media/image12.jpeg" ContentType="image/jpeg"/>
  <Override PartName="/ppt/media/image11.png" ContentType="image/png"/>
  <Override PartName="/ppt/media/image19.jpeg" ContentType="image/jpeg"/>
  <Override PartName="/ppt/media/image2.gif" ContentType="image/gif"/>
  <Override PartName="/ppt/media/image10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3AA9-1A08-4C44-87BA-AE221C96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A6F-9CA0-403C-A5EB-749E9DF1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9FBF-D45C-433E-9393-C6FDB735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A67-7113-4D63-BC8C-ADC0134D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22B-07CD-4009-A1F8-D076D0E9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6C0-66D6-4DAC-9C6B-E61BA69F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CC3-E41B-454E-AD3D-C2CF3D9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FE3-270F-4428-9762-D91971C1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B683-D13B-4A27-AAB6-723EBA07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8EB-4741-40A8-A402-BCB7AF9C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644-2B3F-4C88-8418-6E4A6BB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BB9-8475-49F4-BABE-81122276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AFA1-062F-4050-9940-CB9B9BFAF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6.gi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pn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2"/>
          <p:cNvSpPr/>
          <p:nvPr/>
        </p:nvSpPr>
        <p:spPr>
          <a:xfrm>
            <a:off x="2286000" y="500040"/>
            <a:ext cx="42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Calibri"/>
              </a:rPr>
              <a:t>TP 3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Documents and Settings\slorentz1\Bureau\souris-ordinateur (13).gif"/>
          <p:cNvPicPr/>
          <p:nvPr/>
        </p:nvPicPr>
        <p:blipFill>
          <a:blip r:embed="rId4"/>
          <a:stretch/>
        </p:blipFill>
        <p:spPr>
          <a:xfrm>
            <a:off x="8163000" y="0"/>
            <a:ext cx="981000" cy="95256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e 15"/>
          <p:cNvGrpSpPr/>
          <p:nvPr/>
        </p:nvGrpSpPr>
        <p:grpSpPr>
          <a:xfrm>
            <a:off x="2752560" y="1341360"/>
            <a:ext cx="3606840" cy="619200"/>
            <a:chOff x="2752560" y="1341360"/>
            <a:chExt cx="3606840" cy="619200"/>
          </a:xfrm>
        </p:grpSpPr>
        <p:pic>
          <p:nvPicPr>
            <p:cNvPr id="47" name="Picture 12" descr="C:\Documents and Settings\slorentz1\Bureau\i.gif"/>
            <p:cNvPicPr/>
            <p:nvPr/>
          </p:nvPicPr>
          <p:blipFill>
            <a:blip r:embed="rId5"/>
            <a:stretch/>
          </p:blipFill>
          <p:spPr>
            <a:xfrm>
              <a:off x="5302080" y="1341360"/>
              <a:ext cx="5140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3" descr="C:\Documents and Settings\slorentz1\Bureau\s.gif"/>
            <p:cNvPicPr/>
            <p:nvPr/>
          </p:nvPicPr>
          <p:blipFill>
            <a:blip r:embed="rId6"/>
            <a:stretch/>
          </p:blipFill>
          <p:spPr>
            <a:xfrm>
              <a:off x="275256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14" descr="C:\Documents and Settings\slorentz1\Bureau\o.gif"/>
            <p:cNvPicPr/>
            <p:nvPr/>
          </p:nvPicPr>
          <p:blipFill>
            <a:blip r:embed="rId7"/>
            <a:stretch/>
          </p:blipFill>
          <p:spPr>
            <a:xfrm>
              <a:off x="3274200" y="1341360"/>
              <a:ext cx="63792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15" descr="C:\Documents and Settings\slorentz1\Bureau\u.gif"/>
            <p:cNvPicPr/>
            <p:nvPr/>
          </p:nvPicPr>
          <p:blipFill>
            <a:blip r:embed="rId8"/>
            <a:stretch/>
          </p:blipFill>
          <p:spPr>
            <a:xfrm>
              <a:off x="3882960" y="1341360"/>
              <a:ext cx="7142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6" descr="C:\Documents and Settings\slorentz1\Bureau\r.gif"/>
            <p:cNvPicPr/>
            <p:nvPr/>
          </p:nvPicPr>
          <p:blipFill>
            <a:blip r:embed="rId9"/>
            <a:stretch/>
          </p:blipFill>
          <p:spPr>
            <a:xfrm>
              <a:off x="4597200" y="1341360"/>
              <a:ext cx="70488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:\Documents and Settings\slorentz1\Bureau\s.gif"/>
            <p:cNvPicPr/>
            <p:nvPr/>
          </p:nvPicPr>
          <p:blipFill>
            <a:blip r:embed="rId10"/>
            <a:stretch/>
          </p:blipFill>
          <p:spPr>
            <a:xfrm>
              <a:off x="5816520" y="1341360"/>
              <a:ext cx="542880" cy="61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syphonie souris.mp3.WAV" descr=""/>
          <p:cNvPicPr/>
          <p:nvPr/>
        </p:nvPicPr>
        <p:blipFill>
          <a:blip r:embed="rId11"/>
          <a:stretch/>
        </p:blipFill>
        <p:spPr>
          <a:xfrm>
            <a:off x="4427640" y="198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5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22"/>
          <p:cNvSpPr/>
          <p:nvPr/>
        </p:nvSpPr>
        <p:spPr>
          <a:xfrm>
            <a:off x="0" y="83664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L’ « ancêtre » de la souri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4"/>
          <a:stretch/>
        </p:blipFill>
        <p:spPr>
          <a:xfrm>
            <a:off x="2752560" y="309600"/>
            <a:ext cx="1646280" cy="160668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5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28"/>
          <p:cNvSpPr/>
          <p:nvPr/>
        </p:nvSpPr>
        <p:spPr>
          <a:xfrm>
            <a:off x="421164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3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6"/>
          <a:stretch/>
        </p:blipFill>
        <p:spPr>
          <a:xfrm>
            <a:off x="6156360" y="2849400"/>
            <a:ext cx="2519280" cy="10954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36"/>
          <p:cNvSpPr/>
          <p:nvPr/>
        </p:nvSpPr>
        <p:spPr>
          <a:xfrm>
            <a:off x="-9360" y="5229360"/>
            <a:ext cx="26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Le « futur » de la souri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7"/>
          <a:stretch/>
        </p:blipFill>
        <p:spPr>
          <a:xfrm>
            <a:off x="3070080" y="4699080"/>
            <a:ext cx="2743200" cy="142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3"/>
          <p:cNvSpPr/>
          <p:nvPr/>
        </p:nvSpPr>
        <p:spPr>
          <a:xfrm>
            <a:off x="0" y="54824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port PS/2 &gt;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520" y="5985720"/>
            <a:ext cx="186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alibri"/>
              </a:rPr>
              <a:t>inventée en 1963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649044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Douglas Engelb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6"/>
          <p:cNvSpPr/>
          <p:nvPr/>
        </p:nvSpPr>
        <p:spPr>
          <a:xfrm>
            <a:off x="0" y="32130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souris (2D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124000" y="2687760"/>
            <a:ext cx="1892520" cy="1419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6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1"/>
          <p:cNvSpPr/>
          <p:nvPr/>
        </p:nvSpPr>
        <p:spPr>
          <a:xfrm>
            <a:off x="0" y="530280"/>
            <a:ext cx="382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èles de souris existant et étudi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e 11"/>
          <p:cNvGrpSpPr/>
          <p:nvPr/>
        </p:nvGrpSpPr>
        <p:grpSpPr>
          <a:xfrm>
            <a:off x="-12600" y="987480"/>
            <a:ext cx="9156600" cy="1245960"/>
            <a:chOff x="-12600" y="987480"/>
            <a:chExt cx="9156600" cy="1245960"/>
          </a:xfrm>
        </p:grpSpPr>
        <p:grpSp>
          <p:nvGrpSpPr>
            <p:cNvPr id="78" name="Groupe 9"/>
            <p:cNvGrpSpPr/>
            <p:nvPr/>
          </p:nvGrpSpPr>
          <p:grpSpPr>
            <a:xfrm>
              <a:off x="-12600" y="987480"/>
              <a:ext cx="9156600" cy="1245960"/>
              <a:chOff x="-12600" y="987480"/>
              <a:chExt cx="9156600" cy="1245960"/>
            </a:xfrm>
          </p:grpSpPr>
          <p:sp>
            <p:nvSpPr>
              <p:cNvPr id="79" name="ZoneTexte 57"/>
              <p:cNvSpPr/>
              <p:nvPr/>
            </p:nvSpPr>
            <p:spPr>
              <a:xfrm>
                <a:off x="-12600" y="992160"/>
                <a:ext cx="155484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ZoneTexte 58"/>
              <p:cNvSpPr/>
              <p:nvPr/>
            </p:nvSpPr>
            <p:spPr>
              <a:xfrm>
                <a:off x="15422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ZoneTexte 59"/>
              <p:cNvSpPr/>
              <p:nvPr/>
            </p:nvSpPr>
            <p:spPr>
              <a:xfrm>
                <a:off x="30625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ZoneTexte 60"/>
              <p:cNvSpPr/>
              <p:nvPr/>
            </p:nvSpPr>
            <p:spPr>
              <a:xfrm>
                <a:off x="610344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ZoneTexte 61"/>
              <p:cNvSpPr/>
              <p:nvPr/>
            </p:nvSpPr>
            <p:spPr>
              <a:xfrm>
                <a:off x="7623720" y="98748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ZoneTexte 62"/>
              <p:cNvSpPr/>
              <p:nvPr/>
            </p:nvSpPr>
            <p:spPr>
              <a:xfrm>
                <a:off x="4582800" y="992160"/>
                <a:ext cx="1520280" cy="1241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5" name="Image 64" descr=""/>
            <p:cNvPicPr/>
            <p:nvPr/>
          </p:nvPicPr>
          <p:blipFill>
            <a:blip r:embed="rId4"/>
            <a:stretch/>
          </p:blipFill>
          <p:spPr>
            <a:xfrm>
              <a:off x="2476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mage 65" descr=""/>
            <p:cNvPicPr/>
            <p:nvPr/>
          </p:nvPicPr>
          <p:blipFill>
            <a:blip r:embed="rId5"/>
            <a:stretch/>
          </p:blipFill>
          <p:spPr>
            <a:xfrm>
              <a:off x="1754280" y="1033920"/>
              <a:ext cx="10335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Image 66" descr=""/>
            <p:cNvPicPr/>
            <p:nvPr/>
          </p:nvPicPr>
          <p:blipFill>
            <a:blip r:embed="rId6"/>
            <a:stretch/>
          </p:blipFill>
          <p:spPr>
            <a:xfrm>
              <a:off x="3321720" y="1033920"/>
              <a:ext cx="1080360" cy="11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4768200" y="1033920"/>
              <a:ext cx="1157760" cy="11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mage 68" descr=""/>
            <p:cNvPicPr/>
            <p:nvPr/>
          </p:nvPicPr>
          <p:blipFill>
            <a:blip r:embed="rId8"/>
            <a:stretch/>
          </p:blipFill>
          <p:spPr>
            <a:xfrm>
              <a:off x="6167520" y="1065960"/>
              <a:ext cx="1391760" cy="10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Image 69" descr=""/>
            <p:cNvPicPr/>
            <p:nvPr/>
          </p:nvPicPr>
          <p:blipFill>
            <a:blip r:embed="rId9"/>
            <a:stretch/>
          </p:blipFill>
          <p:spPr>
            <a:xfrm>
              <a:off x="7760160" y="1021320"/>
              <a:ext cx="1293480" cy="11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ZoneTexte 2"/>
          <p:cNvSpPr/>
          <p:nvPr/>
        </p:nvSpPr>
        <p:spPr>
          <a:xfrm>
            <a:off x="291960" y="22417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À b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4"/>
          <p:cNvSpPr/>
          <p:nvPr/>
        </p:nvSpPr>
        <p:spPr>
          <a:xfrm>
            <a:off x="1792440" y="22273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tique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5"/>
          <p:cNvSpPr/>
          <p:nvPr/>
        </p:nvSpPr>
        <p:spPr>
          <a:xfrm>
            <a:off x="3389400" y="224316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se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56"/>
          <p:cNvSpPr/>
          <p:nvPr/>
        </p:nvSpPr>
        <p:spPr>
          <a:xfrm>
            <a:off x="4707000" y="2244600"/>
            <a:ext cx="12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nrouleur U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7"/>
          <p:cNvSpPr/>
          <p:nvPr/>
        </p:nvSpPr>
        <p:spPr>
          <a:xfrm>
            <a:off x="6391440" y="22464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58"/>
          <p:cNvSpPr/>
          <p:nvPr/>
        </p:nvSpPr>
        <p:spPr>
          <a:xfrm>
            <a:off x="7934400" y="2232000"/>
            <a:ext cx="94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 fil ni p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0"/>
          <a:stretch/>
        </p:blipFill>
        <p:spPr>
          <a:xfrm>
            <a:off x="2747880" y="4149720"/>
            <a:ext cx="3648240" cy="1585800"/>
          </a:xfrm>
          <a:prstGeom prst="rect">
            <a:avLst/>
          </a:prstGeom>
          <a:ln w="0">
            <a:noFill/>
          </a:ln>
        </p:spPr>
      </p:pic>
      <p:sp>
        <p:nvSpPr>
          <p:cNvPr id="98" name="ZoneTexte 59"/>
          <p:cNvSpPr/>
          <p:nvPr/>
        </p:nvSpPr>
        <p:spPr>
          <a:xfrm>
            <a:off x="3195720" y="5734080"/>
            <a:ext cx="27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irmouse (souris en 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60"/>
          <p:cNvSpPr/>
          <p:nvPr/>
        </p:nvSpPr>
        <p:spPr>
          <a:xfrm>
            <a:off x="3186000" y="377820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technologi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0" y="1125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ouris optique : caméra (1500 i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D rouge -&gt; rebond -&gt; détection (CM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pteur CMOS -&gt; image -&gt;  D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DSP : 18 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4"/>
          <a:stretch/>
        </p:blipFill>
        <p:spPr>
          <a:xfrm>
            <a:off x="6991200" y="0"/>
            <a:ext cx="2152800" cy="533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158840" y="1268280"/>
          <a:ext cx="4853160" cy="4519800"/>
        </p:xfrm>
        <a:graphic>
          <a:graphicData uri="http://schemas.openxmlformats.org/drawingml/2006/table">
            <a:tbl>
              <a:tblPr/>
              <a:tblGrid>
                <a:gridCol w="1577880"/>
                <a:gridCol w="1403640"/>
                <a:gridCol w="187164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is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x moyen (interne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À bo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€ - 6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que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€ (simp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se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rouleur U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€ - 3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fil ni p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ZoneTexte 7"/>
          <p:cNvSpPr/>
          <p:nvPr/>
        </p:nvSpPr>
        <p:spPr>
          <a:xfrm>
            <a:off x="1908000" y="252360"/>
            <a:ext cx="46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Caractéristiques des souris 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slorentz1\Bureau\c.gif"/>
          <p:cNvPicPr/>
          <p:nvPr/>
        </p:nvPicPr>
        <p:blipFill>
          <a:blip r:embed="rId4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C:\Documents and Settings\slorentz1\Bureau\i.gif"/>
          <p:cNvPicPr/>
          <p:nvPr/>
        </p:nvPicPr>
        <p:blipFill>
          <a:blip r:embed="rId5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orentz1\Bureau\t.gif"/>
          <p:cNvPicPr/>
          <p:nvPr/>
        </p:nvPicPr>
        <p:blipFill>
          <a:blip r:embed="rId6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e 109"/>
          <p:cNvGrpSpPr/>
          <p:nvPr/>
        </p:nvGrpSpPr>
        <p:grpSpPr>
          <a:xfrm>
            <a:off x="108000" y="907920"/>
            <a:ext cx="9144000" cy="5545440"/>
            <a:chOff x="108000" y="907920"/>
            <a:chExt cx="9144000" cy="5545440"/>
          </a:xfrm>
        </p:grpSpPr>
        <p:pic>
          <p:nvPicPr>
            <p:cNvPr id="114" name="Image 64" descr=""/>
            <p:cNvPicPr/>
            <p:nvPr/>
          </p:nvPicPr>
          <p:blipFill>
            <a:blip r:embed="rId4"/>
            <a:stretch/>
          </p:blipFill>
          <p:spPr>
            <a:xfrm>
              <a:off x="108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5" name="Image 65" descr=""/>
            <p:cNvPicPr/>
            <p:nvPr/>
          </p:nvPicPr>
          <p:blipFill>
            <a:blip r:embed="rId5"/>
            <a:stretch/>
          </p:blipFill>
          <p:spPr>
            <a:xfrm>
              <a:off x="1764000" y="93852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6" name="Image 66" descr=""/>
            <p:cNvPicPr/>
            <p:nvPr/>
          </p:nvPicPr>
          <p:blipFill>
            <a:blip r:embed="rId6"/>
            <a:stretch/>
          </p:blipFill>
          <p:spPr>
            <a:xfrm>
              <a:off x="1796760" y="208872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7" name="Picture 5" descr=""/>
            <p:cNvPicPr/>
            <p:nvPr/>
          </p:nvPicPr>
          <p:blipFill>
            <a:blip r:embed="rId7"/>
            <a:srcRect l="0" t="10717" r="0" b="0"/>
            <a:stretch/>
          </p:blipFill>
          <p:spPr>
            <a:xfrm>
              <a:off x="1732320" y="324324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8" name="Image 68" descr=""/>
            <p:cNvPicPr/>
            <p:nvPr/>
          </p:nvPicPr>
          <p:blipFill>
            <a:blip r:embed="rId8"/>
            <a:stretch/>
          </p:blipFill>
          <p:spPr>
            <a:xfrm>
              <a:off x="1692000" y="441324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19" name="Image 69" descr=""/>
            <p:cNvPicPr/>
            <p:nvPr/>
          </p:nvPicPr>
          <p:blipFill>
            <a:blip r:embed="rId9"/>
            <a:stretch/>
          </p:blipFill>
          <p:spPr>
            <a:xfrm>
              <a:off x="1762920" y="5469480"/>
              <a:ext cx="1080720" cy="9838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0" name="Image 65" descr=""/>
            <p:cNvPicPr/>
            <p:nvPr/>
          </p:nvPicPr>
          <p:blipFill>
            <a:blip r:embed="rId10"/>
            <a:stretch/>
          </p:blipFill>
          <p:spPr>
            <a:xfrm>
              <a:off x="108000" y="2090880"/>
              <a:ext cx="86400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1" name="Image 66" descr=""/>
            <p:cNvPicPr/>
            <p:nvPr/>
          </p:nvPicPr>
          <p:blipFill>
            <a:blip r:embed="rId11"/>
            <a:stretch/>
          </p:blipFill>
          <p:spPr>
            <a:xfrm>
              <a:off x="108000" y="3259800"/>
              <a:ext cx="902880" cy="96768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12"/>
            <a:srcRect l="0" t="10717" r="0" b="0"/>
            <a:stretch/>
          </p:blipFill>
          <p:spPr>
            <a:xfrm>
              <a:off x="108000" y="4395600"/>
              <a:ext cx="967680" cy="96012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pic>
          <p:nvPicPr>
            <p:cNvPr id="123" name="Image 68" descr=""/>
            <p:cNvPicPr/>
            <p:nvPr/>
          </p:nvPicPr>
          <p:blipFill>
            <a:blip r:embed="rId13"/>
            <a:stretch/>
          </p:blipFill>
          <p:spPr>
            <a:xfrm>
              <a:off x="108000" y="5493600"/>
              <a:ext cx="1163160" cy="896400"/>
            </a:xfrm>
            <a:prstGeom prst="rect">
              <a:avLst/>
            </a:prstGeom>
            <a:ln w="9360">
              <a:solidFill>
                <a:srgbClr val="38ff09"/>
              </a:solidFill>
              <a:miter/>
            </a:ln>
          </p:spPr>
        </p:pic>
        <p:sp>
          <p:nvSpPr>
            <p:cNvPr id="124" name="Plus 23"/>
            <p:cNvSpPr/>
            <p:nvPr/>
          </p:nvSpPr>
          <p:spPr>
            <a:xfrm>
              <a:off x="1071360" y="2365200"/>
              <a:ext cx="596880" cy="56664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6966" h="566685">
                  <a:moveTo>
                    <a:pt x="79128" y="216700"/>
                  </a:moveTo>
                  <a:lnTo>
                    <a:pt x="231841" y="216700"/>
                  </a:lnTo>
                  <a:lnTo>
                    <a:pt x="231841" y="75114"/>
                  </a:lnTo>
                  <a:lnTo>
                    <a:pt x="365125" y="75114"/>
                  </a:lnTo>
                  <a:lnTo>
                    <a:pt x="365125" y="216700"/>
                  </a:lnTo>
                  <a:lnTo>
                    <a:pt x="517838" y="216700"/>
                  </a:lnTo>
                  <a:lnTo>
                    <a:pt x="517838" y="349985"/>
                  </a:lnTo>
                  <a:lnTo>
                    <a:pt x="365125" y="349985"/>
                  </a:lnTo>
                  <a:lnTo>
                    <a:pt x="365125" y="491571"/>
                  </a:lnTo>
                  <a:lnTo>
                    <a:pt x="231841" y="491571"/>
                  </a:lnTo>
                  <a:lnTo>
                    <a:pt x="231841" y="349985"/>
                  </a:lnTo>
                  <a:lnTo>
                    <a:pt x="79128" y="3499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lus 24"/>
            <p:cNvSpPr/>
            <p:nvPr/>
          </p:nvSpPr>
          <p:spPr>
            <a:xfrm>
              <a:off x="1082520" y="467064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Plus 25"/>
            <p:cNvSpPr/>
            <p:nvPr/>
          </p:nvSpPr>
          <p:spPr>
            <a:xfrm>
              <a:off x="1054080" y="3517920"/>
              <a:ext cx="596880" cy="565200"/>
            </a:xfrm>
            <a:custGeom>
              <a:avLst/>
              <a:gdLst>
                <a:gd name="textAreaLeft" fmla="*/ 78840 w 596880"/>
                <a:gd name="textAreaRight" fmla="*/ 518040 w 5968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6966" h="565097">
                  <a:moveTo>
                    <a:pt x="79128" y="216093"/>
                  </a:moveTo>
                  <a:lnTo>
                    <a:pt x="232028" y="216093"/>
                  </a:lnTo>
                  <a:lnTo>
                    <a:pt x="232028" y="74904"/>
                  </a:lnTo>
                  <a:lnTo>
                    <a:pt x="364938" y="74904"/>
                  </a:lnTo>
                  <a:lnTo>
                    <a:pt x="364938" y="216093"/>
                  </a:lnTo>
                  <a:lnTo>
                    <a:pt x="517838" y="216093"/>
                  </a:lnTo>
                  <a:lnTo>
                    <a:pt x="517838" y="349004"/>
                  </a:lnTo>
                  <a:lnTo>
                    <a:pt x="364938" y="349004"/>
                  </a:lnTo>
                  <a:lnTo>
                    <a:pt x="364938" y="490193"/>
                  </a:lnTo>
                  <a:lnTo>
                    <a:pt x="232028" y="490193"/>
                  </a:lnTo>
                  <a:lnTo>
                    <a:pt x="232028" y="349004"/>
                  </a:lnTo>
                  <a:lnTo>
                    <a:pt x="79128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Plus 26"/>
            <p:cNvSpPr/>
            <p:nvPr/>
          </p:nvSpPr>
          <p:spPr>
            <a:xfrm>
              <a:off x="1209600" y="5739120"/>
              <a:ext cx="595080" cy="56664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720 h 566640"/>
                <a:gd name="textAreaBottom" fmla="*/ 349920 h 566640"/>
              </a:gdLst>
              <a:ahLst/>
              <a:rect l="textAreaLeft" t="textAreaTop" r="textAreaRight" b="textAreaBottom"/>
              <a:pathLst>
                <a:path w="595379" h="566684">
                  <a:moveTo>
                    <a:pt x="78917" y="216700"/>
                  </a:moveTo>
                  <a:lnTo>
                    <a:pt x="231047" y="216700"/>
                  </a:lnTo>
                  <a:lnTo>
                    <a:pt x="231047" y="75114"/>
                  </a:lnTo>
                  <a:lnTo>
                    <a:pt x="364332" y="75114"/>
                  </a:lnTo>
                  <a:lnTo>
                    <a:pt x="364332" y="216700"/>
                  </a:lnTo>
                  <a:lnTo>
                    <a:pt x="516462" y="216700"/>
                  </a:lnTo>
                  <a:lnTo>
                    <a:pt x="516462" y="349984"/>
                  </a:lnTo>
                  <a:lnTo>
                    <a:pt x="364332" y="349984"/>
                  </a:lnTo>
                  <a:lnTo>
                    <a:pt x="364332" y="491570"/>
                  </a:lnTo>
                  <a:lnTo>
                    <a:pt x="231047" y="491570"/>
                  </a:lnTo>
                  <a:lnTo>
                    <a:pt x="231047" y="349984"/>
                  </a:lnTo>
                  <a:lnTo>
                    <a:pt x="78917" y="34998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Égal 27"/>
            <p:cNvSpPr/>
            <p:nvPr/>
          </p:nvSpPr>
          <p:spPr>
            <a:xfrm>
              <a:off x="298764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Égal 28"/>
            <p:cNvSpPr/>
            <p:nvPr/>
          </p:nvSpPr>
          <p:spPr>
            <a:xfrm>
              <a:off x="2987640" y="234792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Égal 29"/>
            <p:cNvSpPr/>
            <p:nvPr/>
          </p:nvSpPr>
          <p:spPr>
            <a:xfrm>
              <a:off x="2987640" y="350028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Égal 30"/>
            <p:cNvSpPr/>
            <p:nvPr/>
          </p:nvSpPr>
          <p:spPr>
            <a:xfrm>
              <a:off x="298764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7" h="287310">
                  <a:moveTo>
                    <a:pt x="76392" y="59186"/>
                  </a:moveTo>
                  <a:lnTo>
                    <a:pt x="499935" y="59186"/>
                  </a:lnTo>
                  <a:lnTo>
                    <a:pt x="499935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5" y="160549"/>
                  </a:lnTo>
                  <a:lnTo>
                    <a:pt x="499935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Égal 31"/>
            <p:cNvSpPr/>
            <p:nvPr/>
          </p:nvSpPr>
          <p:spPr>
            <a:xfrm>
              <a:off x="298764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7" h="288898">
                  <a:moveTo>
                    <a:pt x="76392" y="59513"/>
                  </a:moveTo>
                  <a:lnTo>
                    <a:pt x="499935" y="59513"/>
                  </a:lnTo>
                  <a:lnTo>
                    <a:pt x="499935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5" y="161436"/>
                  </a:lnTo>
                  <a:lnTo>
                    <a:pt x="499935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3636000" y="907920"/>
              <a:ext cx="2088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-back 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 système 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3"/>
            <p:cNvSpPr/>
            <p:nvPr/>
          </p:nvSpPr>
          <p:spPr>
            <a:xfrm>
              <a:off x="3564000" y="2204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Chang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para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4"/>
            <p:cNvSpPr/>
            <p:nvPr/>
          </p:nvSpPr>
          <p:spPr>
            <a:xfrm>
              <a:off x="3571920" y="3428640"/>
              <a:ext cx="124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elf-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5"/>
            <p:cNvSpPr/>
            <p:nvPr/>
          </p:nvSpPr>
          <p:spPr>
            <a:xfrm>
              <a:off x="3513600" y="450900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Remplacement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d’un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système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mécan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6"/>
            <p:cNvSpPr/>
            <p:nvPr/>
          </p:nvSpPr>
          <p:spPr>
            <a:xfrm>
              <a:off x="3564000" y="5589360"/>
              <a:ext cx="170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Universa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00"/>
                  </a:solidFill>
                  <a:latin typeface="Calibri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Égal 37"/>
            <p:cNvSpPr/>
            <p:nvPr/>
          </p:nvSpPr>
          <p:spPr>
            <a:xfrm>
              <a:off x="5580000" y="119520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Égal 40"/>
            <p:cNvSpPr/>
            <p:nvPr/>
          </p:nvSpPr>
          <p:spPr>
            <a:xfrm>
              <a:off x="5580000" y="4653000"/>
              <a:ext cx="576000" cy="28728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040 h 287280"/>
                <a:gd name="textAreaBottom" fmla="*/ 228240 h 287280"/>
              </a:gdLst>
              <a:ahLst/>
              <a:rect l="textAreaLeft" t="textAreaTop" r="textAreaRight" b="textAreaBottom"/>
              <a:pathLst>
                <a:path w="576326" h="287310">
                  <a:moveTo>
                    <a:pt x="76392" y="59186"/>
                  </a:moveTo>
                  <a:lnTo>
                    <a:pt x="499934" y="59186"/>
                  </a:lnTo>
                  <a:lnTo>
                    <a:pt x="499934" y="126761"/>
                  </a:lnTo>
                  <a:lnTo>
                    <a:pt x="76392" y="126761"/>
                  </a:lnTo>
                  <a:close/>
                  <a:moveTo>
                    <a:pt x="76392" y="160549"/>
                  </a:moveTo>
                  <a:lnTo>
                    <a:pt x="499934" y="160549"/>
                  </a:lnTo>
                  <a:lnTo>
                    <a:pt x="499934" y="228124"/>
                  </a:lnTo>
                  <a:lnTo>
                    <a:pt x="76392" y="22812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Égal 41"/>
            <p:cNvSpPr/>
            <p:nvPr/>
          </p:nvSpPr>
          <p:spPr>
            <a:xfrm>
              <a:off x="5580000" y="5732640"/>
              <a:ext cx="576000" cy="288720"/>
            </a:xfrm>
            <a:custGeom>
              <a:avLst/>
              <a:gdLst>
                <a:gd name="textAreaLeft" fmla="*/ 76320 w 576000"/>
                <a:gd name="textAreaRight" fmla="*/ 499680 w 576000"/>
                <a:gd name="textAreaTop" fmla="*/ 59400 h 288720"/>
                <a:gd name="textAreaBottom" fmla="*/ 229320 h 288720"/>
              </a:gdLst>
              <a:ahLst/>
              <a:rect l="textAreaLeft" t="textAreaTop" r="textAreaRight" b="textAreaBottom"/>
              <a:pathLst>
                <a:path w="576326" h="288898">
                  <a:moveTo>
                    <a:pt x="76392" y="59513"/>
                  </a:moveTo>
                  <a:lnTo>
                    <a:pt x="499934" y="59513"/>
                  </a:lnTo>
                  <a:lnTo>
                    <a:pt x="499934" y="127462"/>
                  </a:lnTo>
                  <a:lnTo>
                    <a:pt x="76392" y="127462"/>
                  </a:lnTo>
                  <a:close/>
                  <a:moveTo>
                    <a:pt x="76392" y="161436"/>
                  </a:moveTo>
                  <a:lnTo>
                    <a:pt x="499934" y="161436"/>
                  </a:lnTo>
                  <a:lnTo>
                    <a:pt x="499934" y="229385"/>
                  </a:lnTo>
                  <a:lnTo>
                    <a:pt x="76392" y="229385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98"/>
            <p:cNvSpPr/>
            <p:nvPr/>
          </p:nvSpPr>
          <p:spPr>
            <a:xfrm>
              <a:off x="6161040" y="11239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9"/>
            <p:cNvSpPr/>
            <p:nvPr/>
          </p:nvSpPr>
          <p:spPr>
            <a:xfrm>
              <a:off x="6089040" y="46530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0"/>
            <p:cNvSpPr/>
            <p:nvPr/>
          </p:nvSpPr>
          <p:spPr>
            <a:xfrm>
              <a:off x="6084000" y="5589360"/>
              <a:ext cx="316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(consommation d’énergi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8 (changement de pil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Plus 108"/>
            <p:cNvSpPr/>
            <p:nvPr/>
          </p:nvSpPr>
          <p:spPr>
            <a:xfrm>
              <a:off x="1044360" y="1052280"/>
              <a:ext cx="595080" cy="565200"/>
            </a:xfrm>
            <a:custGeom>
              <a:avLst/>
              <a:gdLst>
                <a:gd name="textAreaLeft" fmla="*/ 78840 w 595080"/>
                <a:gd name="textAreaRight" fmla="*/ 516240 w 595080"/>
                <a:gd name="textAreaTop" fmla="*/ 216000 h 565200"/>
                <a:gd name="textAreaBottom" fmla="*/ 349200 h 565200"/>
              </a:gdLst>
              <a:ahLst/>
              <a:rect l="textAreaLeft" t="textAreaTop" r="textAreaRight" b="textAreaBottom"/>
              <a:pathLst>
                <a:path w="595379" h="565097">
                  <a:moveTo>
                    <a:pt x="78917" y="216093"/>
                  </a:moveTo>
                  <a:lnTo>
                    <a:pt x="231234" y="216093"/>
                  </a:lnTo>
                  <a:lnTo>
                    <a:pt x="231234" y="74904"/>
                  </a:lnTo>
                  <a:lnTo>
                    <a:pt x="364145" y="74904"/>
                  </a:lnTo>
                  <a:lnTo>
                    <a:pt x="364145" y="216093"/>
                  </a:lnTo>
                  <a:lnTo>
                    <a:pt x="516462" y="216093"/>
                  </a:lnTo>
                  <a:lnTo>
                    <a:pt x="516462" y="349004"/>
                  </a:lnTo>
                  <a:lnTo>
                    <a:pt x="364145" y="349004"/>
                  </a:lnTo>
                  <a:lnTo>
                    <a:pt x="364145" y="490193"/>
                  </a:lnTo>
                  <a:lnTo>
                    <a:pt x="231234" y="490193"/>
                  </a:lnTo>
                  <a:lnTo>
                    <a:pt x="231234" y="349004"/>
                  </a:lnTo>
                  <a:lnTo>
                    <a:pt x="78917" y="349004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38ff0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slorentz1\Bureau\c.gif"/>
          <p:cNvPicPr/>
          <p:nvPr/>
        </p:nvPicPr>
        <p:blipFill>
          <a:blip r:embed="rId1"/>
          <a:stretch/>
        </p:blipFill>
        <p:spPr>
          <a:xfrm>
            <a:off x="2052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:\Documents and Settings\slorentz1\Bureau\i.gif"/>
          <p:cNvPicPr/>
          <p:nvPr/>
        </p:nvPicPr>
        <p:blipFill>
          <a:blip r:embed="rId2"/>
          <a:stretch/>
        </p:blipFill>
        <p:spPr>
          <a:xfrm>
            <a:off x="539640" y="32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C:\Documents and Settings\slorentz1\Bureau\t.gif"/>
          <p:cNvPicPr/>
          <p:nvPr/>
        </p:nvPicPr>
        <p:blipFill>
          <a:blip r:embed="rId3"/>
          <a:stretch/>
        </p:blipFill>
        <p:spPr>
          <a:xfrm>
            <a:off x="1015920" y="0"/>
            <a:ext cx="47628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e 74"/>
          <p:cNvGrpSpPr/>
          <p:nvPr/>
        </p:nvGrpSpPr>
        <p:grpSpPr>
          <a:xfrm>
            <a:off x="103320" y="789120"/>
            <a:ext cx="9040680" cy="6068880"/>
            <a:chOff x="103320" y="789120"/>
            <a:chExt cx="9040680" cy="6068880"/>
          </a:xfrm>
        </p:grpSpPr>
        <p:grpSp>
          <p:nvGrpSpPr>
            <p:cNvPr id="149" name="Groupe 38"/>
            <p:cNvGrpSpPr/>
            <p:nvPr/>
          </p:nvGrpSpPr>
          <p:grpSpPr>
            <a:xfrm>
              <a:off x="103320" y="789120"/>
              <a:ext cx="3456000" cy="1005840"/>
              <a:chOff x="103320" y="789120"/>
              <a:chExt cx="3456000" cy="1005840"/>
            </a:xfrm>
          </p:grpSpPr>
          <p:sp>
            <p:nvSpPr>
              <p:cNvPr id="150" name="Plus 39"/>
              <p:cNvSpPr/>
              <p:nvPr/>
            </p:nvSpPr>
            <p:spPr>
              <a:xfrm>
                <a:off x="1041840" y="980640"/>
                <a:ext cx="595800" cy="564120"/>
              </a:xfrm>
              <a:custGeom>
                <a:avLst/>
                <a:gdLst>
                  <a:gd name="textAreaLeft" fmla="*/ 78840 w 595800"/>
                  <a:gd name="textAreaRight" fmla="*/ 516960 w 595800"/>
                  <a:gd name="textAreaTop" fmla="*/ 215640 h 564120"/>
                  <a:gd name="textAreaBottom" fmla="*/ 348480 h 564120"/>
                </a:gdLst>
                <a:ahLst/>
                <a:rect l="textAreaLeft" t="textAreaTop" r="textAreaRight" b="textAreaBottom"/>
                <a:pathLst>
                  <a:path w="596892" h="565157">
                    <a:moveTo>
                      <a:pt x="79118" y="216116"/>
                    </a:moveTo>
                    <a:lnTo>
                      <a:pt x="231984" y="216116"/>
                    </a:lnTo>
                    <a:lnTo>
                      <a:pt x="231984" y="74912"/>
                    </a:lnTo>
                    <a:lnTo>
                      <a:pt x="364908" y="74912"/>
                    </a:lnTo>
                    <a:lnTo>
                      <a:pt x="364908" y="216116"/>
                    </a:lnTo>
                    <a:lnTo>
                      <a:pt x="517774" y="216116"/>
                    </a:lnTo>
                    <a:lnTo>
                      <a:pt x="517774" y="349041"/>
                    </a:lnTo>
                    <a:lnTo>
                      <a:pt x="364908" y="349041"/>
                    </a:lnTo>
                    <a:lnTo>
                      <a:pt x="364908" y="490245"/>
                    </a:lnTo>
                    <a:lnTo>
                      <a:pt x="231984" y="490245"/>
                    </a:lnTo>
                    <a:lnTo>
                      <a:pt x="231984" y="349041"/>
                    </a:lnTo>
                    <a:lnTo>
                      <a:pt x="79118" y="349041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Égal 42"/>
              <p:cNvSpPr/>
              <p:nvPr/>
            </p:nvSpPr>
            <p:spPr>
              <a:xfrm>
                <a:off x="2984040" y="1051920"/>
                <a:ext cx="575280" cy="288360"/>
              </a:xfrm>
              <a:custGeom>
                <a:avLst/>
                <a:gdLst>
                  <a:gd name="textAreaLeft" fmla="*/ 75960 w 575280"/>
                  <a:gd name="textAreaRight" fmla="*/ 499320 w 575280"/>
                  <a:gd name="textAreaTop" fmla="*/ 59400 h 288360"/>
                  <a:gd name="textAreaBottom" fmla="*/ 228960 h 288360"/>
                </a:gdLst>
                <a:ahLst/>
                <a:rect l="textAreaLeft" t="textAreaTop" r="textAreaRight" b="textAreaBottom"/>
                <a:pathLst>
                  <a:path w="576255" h="288929">
                    <a:moveTo>
                      <a:pt x="76383" y="59519"/>
                    </a:moveTo>
                    <a:lnTo>
                      <a:pt x="499872" y="59519"/>
                    </a:lnTo>
                    <a:lnTo>
                      <a:pt x="499872" y="127475"/>
                    </a:lnTo>
                    <a:lnTo>
                      <a:pt x="76383" y="127475"/>
                    </a:lnTo>
                    <a:close/>
                    <a:moveTo>
                      <a:pt x="76383" y="161454"/>
                    </a:moveTo>
                    <a:lnTo>
                      <a:pt x="499872" y="161454"/>
                    </a:lnTo>
                    <a:lnTo>
                      <a:pt x="499872" y="229410"/>
                    </a:lnTo>
                    <a:lnTo>
                      <a:pt x="76383" y="22941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38ff0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2" name="Image 69" descr=""/>
              <p:cNvPicPr/>
              <p:nvPr/>
            </p:nvPicPr>
            <p:blipFill>
              <a:blip r:embed="rId4"/>
              <a:stretch/>
            </p:blipFill>
            <p:spPr>
              <a:xfrm>
                <a:off x="1717920" y="789120"/>
                <a:ext cx="1079640" cy="98208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  <p:pic>
            <p:nvPicPr>
              <p:cNvPr id="153" name="Image 6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3320" y="836640"/>
                <a:ext cx="862920" cy="958320"/>
              </a:xfrm>
              <a:prstGeom prst="rect">
                <a:avLst/>
              </a:prstGeom>
              <a:ln w="9360">
                <a:solidFill>
                  <a:srgbClr val="38ff09"/>
                </a:solidFill>
                <a:miter/>
              </a:ln>
            </p:spPr>
          </p:pic>
        </p:grpSp>
        <p:sp>
          <p:nvSpPr>
            <p:cNvPr id="154" name="Forme libre 45"/>
            <p:cNvSpPr/>
            <p:nvPr/>
          </p:nvSpPr>
          <p:spPr>
            <a:xfrm>
              <a:off x="3101040" y="2375280"/>
              <a:ext cx="3187080" cy="3155040"/>
            </a:xfrm>
            <a:custGeom>
              <a:avLst/>
              <a:gdLst>
                <a:gd name="textAreaLeft" fmla="*/ 0 w 3187080"/>
                <a:gd name="textAreaRight" fmla="*/ 3187440 w 3187080"/>
                <a:gd name="textAreaTop" fmla="*/ 0 h 3155040"/>
                <a:gd name="textAreaBottom" fmla="*/ 3155400 h 3155040"/>
              </a:gdLst>
              <a:ahLst/>
              <a:rect l="textAreaLeft" t="textAreaTop" r="textAreaRight" b="textAreaBottom"/>
              <a:pathLst>
                <a:path w="3191308" h="3161515">
                  <a:moveTo>
                    <a:pt x="2137973" y="235247"/>
                  </a:moveTo>
                  <a:lnTo>
                    <a:pt x="798114" y="0"/>
                  </a:lnTo>
                  <a:lnTo>
                    <a:pt x="0" y="1292260"/>
                  </a:lnTo>
                  <a:lnTo>
                    <a:pt x="1390068" y="2040457"/>
                  </a:lnTo>
                  <a:lnTo>
                    <a:pt x="2184896" y="3161515"/>
                  </a:lnTo>
                  <a:lnTo>
                    <a:pt x="3191308" y="2341671"/>
                  </a:lnTo>
                  <a:lnTo>
                    <a:pt x="2911876" y="1292260"/>
                  </a:lnTo>
                  <a:lnTo>
                    <a:pt x="2911876" y="521063"/>
                  </a:lnTo>
                  <a:lnTo>
                    <a:pt x="2137973" y="235247"/>
                  </a:lnTo>
                  <a:close/>
                </a:path>
              </a:pathLst>
            </a:custGeom>
            <a:solidFill>
              <a:srgbClr val="4f81bd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ZoneTexte 45"/>
            <p:cNvSpPr/>
            <p:nvPr/>
          </p:nvSpPr>
          <p:spPr>
            <a:xfrm>
              <a:off x="6577560" y="4883760"/>
              <a:ext cx="2157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4 : accroissement de l’idé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ZoneTexte 46"/>
            <p:cNvSpPr/>
            <p:nvPr/>
          </p:nvSpPr>
          <p:spPr>
            <a:xfrm>
              <a:off x="3916800" y="5602680"/>
              <a:ext cx="327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5 : développement inégal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e 64"/>
            <p:cNvGrpSpPr/>
            <p:nvPr/>
          </p:nvGrpSpPr>
          <p:grpSpPr>
            <a:xfrm>
              <a:off x="3368880" y="1796760"/>
              <a:ext cx="3739320" cy="3715920"/>
              <a:chOff x="3368880" y="1796760"/>
              <a:chExt cx="3739320" cy="3715920"/>
            </a:xfrm>
          </p:grpSpPr>
          <p:sp>
            <p:nvSpPr>
              <p:cNvPr id="158" name="Octogone 52"/>
              <p:cNvSpPr/>
              <p:nvPr/>
            </p:nvSpPr>
            <p:spPr>
              <a:xfrm rot="1348800">
                <a:off x="3860280" y="2289240"/>
                <a:ext cx="2748240" cy="27432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ctogone 53"/>
              <p:cNvSpPr/>
              <p:nvPr/>
            </p:nvSpPr>
            <p:spPr>
              <a:xfrm rot="1348800">
                <a:off x="4213080" y="2660400"/>
                <a:ext cx="2014560" cy="204804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ctogone 54"/>
              <p:cNvSpPr/>
              <p:nvPr/>
            </p:nvSpPr>
            <p:spPr>
              <a:xfrm rot="1348800">
                <a:off x="4565880" y="2991600"/>
                <a:ext cx="1346400" cy="134316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ctogone 55"/>
              <p:cNvSpPr/>
              <p:nvPr/>
            </p:nvSpPr>
            <p:spPr>
              <a:xfrm rot="1348800">
                <a:off x="4893480" y="3325680"/>
                <a:ext cx="669240" cy="669600"/>
              </a:xfrm>
              <a:prstGeom prst="octagon">
                <a:avLst>
                  <a:gd name="adj" fmla="val 29435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Connecteur droit 57"/>
              <p:cNvSpPr/>
              <p:nvPr/>
            </p:nvSpPr>
            <p:spPr>
              <a:xfrm>
                <a:off x="3908160" y="2342520"/>
                <a:ext cx="2661840" cy="262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Connecteur droit 59"/>
              <p:cNvSpPr/>
              <p:nvPr/>
            </p:nvSpPr>
            <p:spPr>
              <a:xfrm>
                <a:off x="5225400" y="1796760"/>
                <a:ext cx="27360" cy="3715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Connecteur droit 61"/>
              <p:cNvSpPr/>
              <p:nvPr/>
            </p:nvSpPr>
            <p:spPr>
              <a:xfrm flipH="1">
                <a:off x="3915360" y="2349720"/>
                <a:ext cx="2647080" cy="261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Connecteur droit 63"/>
              <p:cNvSpPr/>
              <p:nvPr/>
            </p:nvSpPr>
            <p:spPr>
              <a:xfrm>
                <a:off x="3368880" y="3643560"/>
                <a:ext cx="3739320" cy="2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ZoneTexte 65"/>
            <p:cNvSpPr/>
            <p:nvPr/>
          </p:nvSpPr>
          <p:spPr>
            <a:xfrm>
              <a:off x="5027040" y="32529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ZoneTexte 66"/>
            <p:cNvSpPr/>
            <p:nvPr/>
          </p:nvSpPr>
          <p:spPr>
            <a:xfrm>
              <a:off x="5027040" y="29682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ZoneTexte 67"/>
            <p:cNvSpPr/>
            <p:nvPr/>
          </p:nvSpPr>
          <p:spPr>
            <a:xfrm>
              <a:off x="5027040" y="263484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ZoneTexte 68"/>
            <p:cNvSpPr/>
            <p:nvPr/>
          </p:nvSpPr>
          <p:spPr>
            <a:xfrm>
              <a:off x="5005440" y="232092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ZoneTexte 69"/>
            <p:cNvSpPr/>
            <p:nvPr/>
          </p:nvSpPr>
          <p:spPr>
            <a:xfrm>
              <a:off x="4994640" y="191556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ctogone 52"/>
            <p:cNvSpPr/>
            <p:nvPr/>
          </p:nvSpPr>
          <p:spPr>
            <a:xfrm rot="1348800">
              <a:off x="3506760" y="1943280"/>
              <a:ext cx="3463560" cy="3423240"/>
            </a:xfrm>
            <a:prstGeom prst="octagon">
              <a:avLst>
                <a:gd name="adj" fmla="val 29435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7200" rIns="7200" tIns="7200" bIns="72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ZoneTexte 69"/>
            <p:cNvSpPr/>
            <p:nvPr/>
          </p:nvSpPr>
          <p:spPr>
            <a:xfrm>
              <a:off x="5006160" y="1517400"/>
              <a:ext cx="65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ZoneTexte 43"/>
            <p:cNvSpPr/>
            <p:nvPr/>
          </p:nvSpPr>
          <p:spPr>
            <a:xfrm>
              <a:off x="6507720" y="1770840"/>
              <a:ext cx="211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2 : conductibilité énergét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ZoneTexte 44"/>
            <p:cNvSpPr/>
            <p:nvPr/>
          </p:nvSpPr>
          <p:spPr>
            <a:xfrm>
              <a:off x="7083000" y="3136320"/>
              <a:ext cx="2005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3 : coordination du rythme des par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ZoneTexte 48"/>
            <p:cNvSpPr/>
            <p:nvPr/>
          </p:nvSpPr>
          <p:spPr>
            <a:xfrm>
              <a:off x="1336320" y="3353760"/>
              <a:ext cx="2078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7 : transition vers le micro-nivea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49"/>
            <p:cNvSpPr/>
            <p:nvPr/>
          </p:nvSpPr>
          <p:spPr>
            <a:xfrm>
              <a:off x="4290480" y="1052280"/>
              <a:ext cx="236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Calibri"/>
                </a:rPr>
                <a:t>Loi 1 : intégralité des parties du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ZoneTexte 50"/>
            <p:cNvSpPr/>
            <p:nvPr/>
          </p:nvSpPr>
          <p:spPr>
            <a:xfrm>
              <a:off x="1932840" y="1842840"/>
              <a:ext cx="2632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Loi 8 : accroissement du dynamisme et de la contrôlabil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ZoneTexte 75"/>
            <p:cNvSpPr/>
            <p:nvPr/>
          </p:nvSpPr>
          <p:spPr>
            <a:xfrm>
              <a:off x="1923840" y="4862880"/>
              <a:ext cx="221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oi 6 : transition vers le super-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ZoneTexte 73"/>
            <p:cNvGrpSpPr/>
            <p:nvPr/>
          </p:nvGrpSpPr>
          <p:grpSpPr>
            <a:xfrm>
              <a:off x="6635880" y="5909040"/>
              <a:ext cx="2508120" cy="948960"/>
              <a:chOff x="6635880" y="5909040"/>
              <a:chExt cx="2508120" cy="948960"/>
            </a:xfrm>
          </p:grpSpPr>
          <p:pic>
            <p:nvPicPr>
              <p:cNvPr id="180" name="ZoneTexte 73" descr=""/>
              <p:cNvPicPr/>
              <p:nvPr/>
            </p:nvPicPr>
            <p:blipFill>
              <a:blip r:embed="rId6"/>
              <a:stretch/>
            </p:blipFill>
            <p:spPr>
              <a:xfrm>
                <a:off x="6635880" y="5909040"/>
                <a:ext cx="2508120" cy="94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6651360" y="5924160"/>
                <a:ext cx="248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0000"/>
                    </a:solidFill>
                    <a:latin typeface="Calibri"/>
                  </a:rPr>
                  <a:t>Rouge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0000"/>
                    </a:solidFill>
                    <a:latin typeface="Calibri"/>
                  </a:rPr>
                  <a:t>: lois st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ffffff"/>
                    </a:solidFill>
                    <a:latin typeface="Calibri"/>
                  </a:rPr>
                  <a:t>Blanc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ffffff"/>
                    </a:solidFill>
                    <a:latin typeface="Calibri"/>
                  </a:rPr>
                  <a:t>: lois cinémat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fr-FR" sz="1800" spc="-1" strike="noStrike">
                    <a:solidFill>
                      <a:srgbClr val="000000"/>
                    </a:solidFill>
                    <a:latin typeface="Calibri"/>
                  </a:rPr>
                  <a:t>Vert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fr-FR" sz="1800" spc="-1" strike="noStrike">
                    <a:solidFill>
                      <a:srgbClr val="000000"/>
                    </a:solidFill>
                    <a:latin typeface="Calibri"/>
                  </a:rPr>
                  <a:t>: lois dynamiqu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ZoneTexte 3"/>
          <p:cNvSpPr/>
          <p:nvPr/>
        </p:nvSpPr>
        <p:spPr>
          <a:xfrm>
            <a:off x="2643120" y="2766960"/>
            <a:ext cx="3857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5925960" y="3314880"/>
            <a:ext cx="216000" cy="26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Documents and Settings\Sébastien\Bureau\Sans titre.gif"/>
          <p:cNvPicPr/>
          <p:nvPr/>
        </p:nvPicPr>
        <p:blipFill>
          <a:blip r:embed="rId1"/>
          <a:stretch/>
        </p:blipFill>
        <p:spPr>
          <a:xfrm>
            <a:off x="2843280" y="-774720"/>
            <a:ext cx="3457440" cy="774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1.48148E-006 L 0 0.66157 E">
                                      <p:cBhvr>
                                        <p:cTn id="4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66157 L 0 1.13403 E">
                                      <p:cBhvr>
                                        <p:cTn id="45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7:01:16Z</dcterms:created>
  <dc:creator>Jeux</dc:creator>
  <dc:description/>
  <dc:language>en-US</dc:language>
  <cp:lastModifiedBy>Seblor</cp:lastModifiedBy>
  <dcterms:modified xsi:type="dcterms:W3CDTF">2011-02-21T18:15:46Z</dcterms:modified>
  <cp:revision>96</cp:revision>
  <dc:subject/>
  <dc:title>Diapositive 1</dc:title>
</cp:coreProperties>
</file>